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1333-A5D8-4C84-9AF8-4386F6A03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D9F9-BBC4-4F41-BBC9-02BBF8BB4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B399-18EF-4B99-B4BE-EBD60A79F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DCF1-F122-43F4-A348-2F850878E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9CE0B-D6FD-44DB-80A9-F03C6322F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87D51-4B0A-4904-9874-76DD39E11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194D9-F1C8-46DA-BACD-7A16114D5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79407-0BDD-4C31-A1F4-64DC20AA9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5ECDC-983D-40B5-933C-6692798BC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E92E6-B3A5-44C1-8C6D-A9A45BC7C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FBC76-D52E-42F7-9FE9-69902AF3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1C9D-03E7-415D-9DC9-FF3232DF0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BDB0B-561F-46A4-95C5-AD82E1AE2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F6C05-4FEC-4C25-B820-453D8CEE0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8BE0D-7937-4B1A-A8E8-EAD92AFC9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AE298-82E5-4335-ADDF-83E1C0E48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D33FF-1FA6-4EC0-9D95-B3F033725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3843-81E2-4082-A46C-AA821AA28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3032-353C-4C4D-BC84-4CC247A3A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5FFA-4030-4434-8929-7EC5875CF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3AE9-43D4-4D57-895D-BA40AF555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1CFA-EFAF-4CF0-9513-469D34631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B74E-CA6E-42DA-A6B2-DDD809A88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1E27-EC4D-4DC1-B2D7-6A69FB52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B88E9-8A1F-47F4-9484-DACF9817015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CFD0C-09B4-47AA-8916-AA59708F466A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Arial"/>
              </a:rPr>
              <a:t>Using Credi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4 C’s of Credit (cont.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Capita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o you have any valuable assets?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at property do you own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o you have a savings account or investments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4 C’s of Credit (cont.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Capacit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ave you been working regularly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o you have a steady job? What is your salary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ow many other loan payments do you have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hat are your current living expenses? What are your current debt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ow many dependents do you have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4 C’s of Credit (cont.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Condi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hat general economic conditions can affect your repayment of debt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ow secure is your job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ow is the employment situation in your geographic area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ding a Credit Histo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Building a credit histor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stablish a steady work record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y all bills promptly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Open a checking account and don’t bounce check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Open a savings account and make regular deposit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pply for a local store credit card and make regular monthly payment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pply for a small loan using your savings account as collatera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t a co-signer on a loan and pay back the loan as agreed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Credi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Open 30-Day Accou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consumer promises to pay the full balance each mont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Credit (cont.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Installment credit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erchandise and services are paid for in two or more regularly scheduled payments of a set amount. Interest is include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tail businesses, such as car and appliance deal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Credit (cont.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Revolving credi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ny items can be bought using this plan as long as the total amount does not go over the credit user’s assigned dollar limi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payment is made at regular time intervals for any amount at or above the minimum required amount. Interest is charged on the remaining balanc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tail stor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inancial institutions that issue credit card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redit Card Term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Before selecting a credit card, learn which terms and conditions appl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nnual Percentage Rate (APR)- The cost of credit, expressed as a yearly percenta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ree Period (grace period)- Allows you to avoid the finance charge by paying your current balance in full before the due date shown on your billing stat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nnual Fees- A fee each year for using the car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ate Fees- A fee implemented when you don’t pay your bill on tim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redit Histo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redit History- The complete record of your borrowing and repayment performa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redit Bureau- A company that gathers, stores, and sells credit information to business subscrib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Approximately 1200 across the nation distribute information concerning nearly 150 million consumer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redit Report- A written statement of a consumer’s credit history, issued by a credit bureau to its business subscrib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Your Righ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Truth in lending act (1968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nsures consumers are fully informed about cost and conditions of borrowing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Fair credit reporting act (1970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otects the privacy and accuracy of information in a credit check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Equal opportunity act (1974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ohibits discrimination in giving credit on the basis of sex, race, color, religion, national origin, marital status, age, or receipt of public assistanc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is Credit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Credit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- Money borrowed to buy something now, with the agreement to pay for it later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ver 80 percent of all purchases in the U.S. are made with credit rather than cas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Your Rights (cont.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Fair credit billing act (1974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ts up a procedure for the quick correction of mistakes that appear on consumer credit account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Fair debt collection practices act (1977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events abuse by professional debt collectors, and applies to anyone employed to collect debts owed to others; does not apply to banks or other businesses collecting their own account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Your Responsibiliti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rrow only what you can repa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ad and understand the credit contra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ay debts promptl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tify creditor if you cannot meet payment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port lost or stolen credit cards promptl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ver give your card number over the phone unless you initiated the call or are certain of the caller’s identit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How much can you afford? The 20-10 rule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Your total borrowing should not exceed 20 percent of your yearly net income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xample- You make $4000 a month, you should not borrow more than $800 per month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You should not take on monthly credit card payments that total more than 10 percent of your monthly net inco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bt does not include your house payment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ankruptc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nkruptcy- A legal process that relieves debtors of the responsibility of paying their debts or protects them while they try to repa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nvoluntary bankruptcy- occurs when creditors file a petition with the court asking to declare the debtor bankrupt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Voluntary bankruptcy- Occurs when you file a petition with a federal court asking to be declared bankrup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Chapter 11 bankruptcy- A reorganization form of bankruptcy for businesses that allows them to continue operation under court supervision as they repay their restructured debt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Chapter 7 bankruptcy- A liquidation form of bankruptcy for individuals that wipes out most debts in exchange for giving up most asset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Chapter 13 bankruptcy- A reorganization form of bankruptcy for individuals that allows debtors to keep their property and use their income to pay a portion of their debts over three to five year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reventing Credit Card Frau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.  Write “SEE ID” on your card – sign name to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.  Don’t allow your card out of your sigh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 Be Careful giving your account numb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 Don’t put your PIN on your car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5.  Don’t carry cards that are not neede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6.  Destroy your card if you receive a new car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7.  Destroy your receip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8.  Don’t let others use your car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9.  Invest in a safety deposit box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istory of Credi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Early Years-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The need for credit arose in the US when the country grew from a bartering and trading society to a currency exchange economy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ne of the earliest forms of credit was the account at the general sto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istory of Credit (cont.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900’s Credit- Since the 1900’s, interest rates have dropp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cord numbers of people declared bankruptcy because they overextended on credi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ince 1920 buying on credit has become the American way of lif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No longer is credit saved for emergen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ior to 1970, there was no consumer credit protection legislation; laws protecting consumer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istory of Credit (cont.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day- Credit is abundant and easy to ge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erchants encourage consumers to use credit to buy all kinds of goods and servic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e Internet has opened new uses of credit cards that will increase debt into the fut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vantages of using credit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ble to buy needed items now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on’t have to carry cas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reates a record of purchas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re convenient than writing check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olidates bills into one pay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sadvantages of using credit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terest (higher cost of item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require additional fe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nancial difficulties may arise if one loses track of how much has been spent each mont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creased impulse buying may occu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ocabulary of Credi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apital- Property you possess that is worth more than your deb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This lets the creditor know you are worthy of borrowing money to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llateral- Property pledged to assure repayment of a lo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If you fail to make your payments, your property will be repossessed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inancial Charge- The interest you pay for the use of credi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ine of Credit- A pre-established amount that can be borrowed on demand with no collater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ferred Billing- A service available to charge customers whereby purchases are not billed to the customer until later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4 C’s of Credi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Charact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ave you used credit before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o you pay your bills on time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o you have a good credit report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an you provide character references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ow long have you been at your present job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9T15:59:10Z</dcterms:created>
  <dc:creator>bbauer</dc:creator>
  <dc:description/>
  <dc:language>en-US</dc:language>
  <cp:lastModifiedBy>bbauer</cp:lastModifiedBy>
  <dcterms:modified xsi:type="dcterms:W3CDTF">2011-04-29T16:57:22Z</dcterms:modified>
  <cp:revision>15</cp:revision>
  <dc:subject/>
  <dc:title>Using Credit</dc:title>
</cp:coreProperties>
</file>