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1F0-C1EA-4E77-A0F6-A1D296BF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6D4-79BC-4430-885E-A1CEDDA9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827-BA6D-4DD7-8A8E-2BD6EA97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A84-3398-4957-9BF5-3ADF252E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B872-DAB9-4563-9275-0B6077DD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278A-873A-46CD-B9DB-4F9F024A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687F-5E33-4CA0-9091-0B21D744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CFE0-1599-488E-8736-8D180C7A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F41-100E-4662-B3A1-0FC32688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5CCA-A772-4F72-926F-D411FC0E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79D5-1697-428D-8574-7A93F7E0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AE4-14BC-43FA-8311-03C44314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720A-DF35-4B37-A936-EAD060C1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7E09-E339-4EE0-B561-87A11E90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6C3F-7C56-4948-8FF6-27A5DA99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56A5-4174-42B9-A3D7-D37EB8AD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288F-7936-4CD5-A6B8-812B44DD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64D-339B-456E-A550-17790AE8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774-1DD7-43FC-94D5-30DD2231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C6F-B267-4836-956D-7E51ED90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808-9A57-495E-9274-B4AD75C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A80-E0A8-4E7F-8DC3-969EBBB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7B4-3D69-40D6-A4DE-B363A475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2FF-0624-4F16-A707-F332446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E478-5E91-4950-AE3C-098FBCA5FD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F26B-7C06-451C-8CAA-91569D89A15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Using Credi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ny valuable assets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property do you ow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savings account or investment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you been working regularl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 you have a steady job? What is your salar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other loan paym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are your current living expenses? What are your current debt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depend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general economic conditions can affect your repayment of deb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secure is your job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is the employment situation in your geographic area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a 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uilding a credit his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stablish a steady work reco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all bills promptl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checking account and don’t bounce check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savings account and make regular deposi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local store credit card and make regular monthly paymen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small loan using your savings account as collater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t a co-signer on a loan and pay back the loan as agre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pen 30-Day Accou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nsumer promises to pay the full balance each mon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tallment credi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rchandise and services are paid for in two or more regularly scheduled payments of a set amount. Interest is includ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tail businesses, such as car and appliance deal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evolving cred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items can be bought using this plan as long as the total amount does not go over the credit user’s assigned dollar lim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ayment is made at regular time intervals for any amount at or above the minimum required amount. Interest is charged on the remaining bala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ail sto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institutions that issue credit ca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Card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Before selecting a credit card, learn which terms and conditions app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Percentage Rate (APR)- The cost of credit, expressed as a yearly percent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Period (grace period)- Allows you to avoid the finance charge by paying your current balance in full before the due date shown on your billing stat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Fees- A fee each year for using the c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te Fees- A fee implemented when you don’t pay your bill on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History- The complete record of your borrowing and repayment perform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Bureau- A company that gathers, stores, and sells credit information to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pproximately 1200 across the nation distribute information concerning nearly 150 million consume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Report- A written statement of a consumer’s credit history, issued by a credit bureau to its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uth in lending act (1968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sures consumers are fully informed about cost and conditions of borrow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r credit reporting act (197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tects the privacy and accuracy of information in a credit check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qual opportunity act (1974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hibits discrimination in giving credit on the basis of sex, race, color, religion, national origin, marital status, age, or receipt of public assistan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red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redit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- Money borrowed to buy something now, with the agreement to pay for it lat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ver 80 percent of all purchases in the U.S. are made with credit rather than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credit billing act (197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s up a procedure for the quick correction of mistakes that appear on consumer credit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debt collection practices act (197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vents abuse by professional debt collectors, and applies to anyone employed to collect debts owed to others; does not apply to banks or other businesses collecting their own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esponsibil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rrow only what you can rep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 and understand the credit contra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y debt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ify creditor if you cannot meet paym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ort lost or stolen credit card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give your card number over the phone unless you initiated the call or are certain of the caller’s identi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much can you afford? The 20-10 rul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r total borrowing should not exceed 20 percent of your yearly net income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ample- You make $4000 a month, you should not borrow more than $800 per mon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should not take on monthly credit card payments that total more than 10 percent of your monthly net in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bt does not include your house payment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nkrupt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nkruptcy- A legal process that relieves debtors of the responsibility of paying their debts or protects them while they try to rep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voluntary bankruptcy- occurs when creditors file a petition with the court asking to declare the debtor bankrup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Voluntary bankruptcy- Occurs when you file a petition with a federal court asking to be declared bankrup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1 bankruptcy- A reorganization form of bankruptcy for businesses that allows them to continue operation under court supervision as they repay their restructured deb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7 bankruptcy- A liquidation form of bankruptcy for individuals that wipes out most debts in exchange for giving up most asse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3 bankruptcy- A reorganization form of bankruptcy for individuals that allows debtors to keep their property and use their income to pay a portion of their debts over three to five yea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venting Credit Card Fra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Write “SEE ID” on your card – sign name to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 Don’t allow your card out of your s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Be Careful giving your account num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 Don’t put your PIN on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 Don’t carry cards that are not need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 Destroy your card if you receive a new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 Destroy your receip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 Don’t let others use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.  Invest in a safety deposit bo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arly Years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need for credit arose in the US when the country grew from a bartering and trading society to a currency exchange econom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of the earliest forms of credit was the account at the general st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00’s Credit- Since the 1900’s, interest rates have dropp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ord numbers of people declared bankruptcy because they overextended on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nce 1920 buying on credit has become the American way of lif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longer is credit saved for emergen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ior to 1970, there was no consumer credit protection legislation; laws protecting consum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day- Credit is abundant and easy to g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rchants encourage consumers to use credit to buy all kinds of goods and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Internet has opened new uses of credit cards that will increase debt into the fu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le to buy needed items n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’t have to carry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es a record of purch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convenient than writing chec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olidates bills into one pay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est (higher cost of item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require additional fe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nancial difficulties may arise if one loses track of how much has been spent each mon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d impulse buying may occ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ital- Property you possess that is worth more than your deb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is lets the creditor know you are worthy of borrowing money t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llateral- Property pledged to assure repayment of a lo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If you fail to make your payments, your property will be repossessed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Charge- The interest you pay for the use of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ne of Credit- A pre-established amount that can be borrowed on demand with no collater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erred Billing- A service available to charge customers whereby purchases are not billed to the customer until lat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you used credit befor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pay your bills on ti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good credit repor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 you provide character referenc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long have you been at your present job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59:10Z</dcterms:created>
  <dc:creator>bbauer</dc:creator>
  <dc:description/>
  <dc:language>en-US</dc:language>
  <cp:lastModifiedBy>bbauer</cp:lastModifiedBy>
  <dcterms:modified xsi:type="dcterms:W3CDTF">2011-04-29T16:57:22Z</dcterms:modified>
  <cp:revision>15</cp:revision>
  <dc:subject/>
  <dc:title>Using Credit</dc:title>
</cp:coreProperties>
</file>