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841-96A4-4677-A165-3F171BAF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B66-1BE3-4810-AB1E-1E247BFF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434-3E33-4248-86B3-0B2C5928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FE9-AF85-4D3B-8FCB-52A48CF1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238F-5275-4EEE-9886-B478554C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8ED7-CFFA-495F-A7EC-EAF31369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8AA3-F869-491E-9C32-9B48F6D2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2380-B106-4C94-9263-4F9A290D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5930-B698-4506-B5ED-CD538E2E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FA3D-396C-4D76-8737-8812304D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C028-BE43-487F-9948-1BCD9E7F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3E4-BEAD-4DD6-A69A-D3FED101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21A9-BC10-4108-A14D-5EBBABDC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73D2-7D55-4F53-9057-52678167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0E50-3059-4E97-9087-D260D98E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7C3B-1501-4E28-9C3F-E869BF42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DC29-914B-4AC6-873C-F1A3DC1B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0B5-21AE-4BDE-8B21-C24FA79B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8A5-503C-4848-B154-16EC5693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8D3-C7AB-44CA-A8D5-047503A5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3E3-AB6C-4FFA-84EF-DA703ABD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48D5-F7B4-40C4-AAF4-F6C6FC75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269-CDE5-49E1-AA88-09D8A1B5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C6C-1A9F-4B61-8B83-6E024EF3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50A3-6E21-4F9A-A374-706406B4B3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3544-F4CD-4FCE-8E0E-A0B4535C4EF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Using Credi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ny valuable assets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property do you ow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 savings account or investment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you been working regularl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 you have a steady job? What is your salar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many other loan payments do you hav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are your current living expenses? What are your current debt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many dependents do you hav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ndi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general economic conditions can affect your repayment of debt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secure is your job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is the employment situation in your geographic area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ding a Credit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uilding a credit his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stablish a steady work recor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y all bills promptl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en a checking account and don’t bounce check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en a savings account and make regular deposi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ply for a local store credit card and make regular monthly paymen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ply for a small loan using your savings account as collater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t a co-signer on a loan and pay back the loan as agre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Open 30-Day Accou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consumer promises to pay the full balance each mon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tallment credi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rchandise and services are paid for in two or more regularly scheduled payments of a set amount. Interest is includ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tail businesses, such as car and appliance deal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Revolving cred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items can be bought using this plan as long as the total amount does not go over the credit user’s assigned dollar lim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payment is made at regular time intervals for any amount at or above the minimum required amount. Interest is charged on the remaining bala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ail stor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nancial institutions that issue credit car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dit Card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Before selecting a credit card, learn which terms and conditions app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nual Percentage Rate (APR)- The cost of credit, expressed as a yearly percent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 Period (grace period)- Allows you to avoid the finance charge by paying your current balance in full before the due date shown on your billing stat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nual Fees- A fee each year for using the ca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te Fees- A fee implemented when you don’t pay your bill on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dit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History- The complete record of your borrowing and repayment perform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Bureau- A company that gathers, stores, and sells credit information to business subscrib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pproximately 1200 across the nation distribute information concerning nearly 150 million consumer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Report- A written statement of a consumer’s credit history, issued by a credit bureau to its business subscrib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igh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uth in lending act (1968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sures consumers are fully informed about cost and conditions of borrow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r credit reporting act (197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tects the privacy and accuracy of information in a credit check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qual opportunity act (1974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hibits discrimination in giving credit on the basis of sex, race, color, religion, national origin, marital status, age, or receipt of public assistan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Credi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Credit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- Money borrowed to buy something now, with the agreement to pay for it later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ver 80 percent of all purchases in the U.S. are made with credit rather than cas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ights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air credit billing act (197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s up a procedure for the quick correction of mistakes that appear on consumer credit accou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air debt collection practices act (1977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vents abuse by professional debt collectors, and applies to anyone employed to collect debts owed to others; does not apply to banks or other businesses collecting their own accou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esponsibil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rrow only what you can rep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d and understand the credit contra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y debts prompt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ify creditor if you cannot meet paym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ort lost or stolen credit cards prompt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ver give your card number over the phone unless you initiated the call or are certain of the caller’s identi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much can you afford? The 20-10 rule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r total borrowing should not exceed 20 percent of your yearly net income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ample- You make $4000 a month, you should not borrow more than $800 per mont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 should not take on monthly credit card payments that total more than 10 percent of your monthly net inco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bt does not include your house payment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nkrupt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nkruptcy- A legal process that relieves debtors of the responsibility of paying their debts or protects them while they try to rep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voluntary bankruptcy- occurs when creditors file a petition with the court asking to declare the debtor bankrup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Voluntary bankruptcy- Occurs when you file a petition with a federal court asking to be declared bankrup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11 bankruptcy- A reorganization form of bankruptcy for businesses that allows them to continue operation under court supervision as they repay their restructured deb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7 bankruptcy- A liquidation form of bankruptcy for individuals that wipes out most debts in exchange for giving up most asse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13 bankruptcy- A reorganization form of bankruptcy for individuals that allows debtors to keep their property and use their income to pay a portion of their debts over three to five yea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venting Credit Card Frau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 Write “SEE ID” on your card – sign name to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 Don’t allow your card out of your s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Be Careful giving your account num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 Don’t put your PIN on your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  Don’t carry cards that are not need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6.  Destroy your card if you receive a new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7.  Destroy your receip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.  Don’t let others use your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.  Invest in a safety deposit bo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arly Years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need for credit arose in the US when the country grew from a bartering and trading society to a currency exchange econom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of the earliest forms of credit was the account at the general sto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900’s Credit- Since the 1900’s, interest rates have dropp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ord numbers of people declared bankruptcy because they overextended on cred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nce 1920 buying on credit has become the American way of lif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longer is credit saved for emergen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ior to 1970, there was no consumer credit protection legislation; laws protecting consum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day- Credit is abundant and easy to g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rchants encourage consumers to use credit to buy all kinds of goods and servi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Internet has opened new uses of credit cards that will increase debt into the fu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antages of using credi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ble to buy needed items n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n’t have to carry cas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reates a record of purcha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re convenient than writing chec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olidates bills into one pay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advantages of using credi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est (higher cost of item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require additional fe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nancial difficulties may arise if one loses track of how much has been spent each mon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reased impulse buying may occu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ital- Property you possess that is worth more than your deb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is lets the creditor know you are worthy of borrowing money t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llateral- Property pledged to assure repayment of a lo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If you fail to make your payments, your property will be repossessed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nancial Charge- The interest you pay for the use of cred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ne of Credit- A pre-established amount that can be borrowed on demand with no collater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erred Billing- A service available to charge customers whereby purchases are not billed to the customer until lat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harac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you used credit befor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pay your bills on tim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 good credit repor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n you provide character reference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long have you been at your present job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5:59:10Z</dcterms:created>
  <dc:creator>bbauer</dc:creator>
  <dc:description/>
  <dc:language>en-US</dc:language>
  <cp:lastModifiedBy>bbauer</cp:lastModifiedBy>
  <dcterms:modified xsi:type="dcterms:W3CDTF">2011-04-29T16:57:22Z</dcterms:modified>
  <cp:revision>15</cp:revision>
  <dc:subject/>
  <dc:title>Using Credit</dc:title>
</cp:coreProperties>
</file>