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843-E70B-418F-A9A2-30E9FF8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559-87F1-48E8-BBD7-12DD25C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B8A-3296-4880-AF0E-6EA41AFD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E65-6B71-494C-96E3-94EFAB35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67E-277B-4B02-B9F5-099FE995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6F5-EB66-4D8C-AB3E-1376A71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709-2FC9-4F73-A74D-9EA0EC7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7BD-08D6-4AF4-8773-4556C7D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EF7-24C8-4066-8945-8DC987D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B67-866A-479A-A4E5-69A55BCF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0252-E3FE-4B2B-AB94-C672380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6CA-14E7-4CCB-A183-930669C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690-FBBF-4A9D-8A93-24546DC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6B6-1AD9-421B-9B02-931F1A3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8A10-B222-4352-AAEB-EAB5C3F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CD00-5EEA-499C-8889-1C99A64A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820F-4A3F-41A4-9346-970BBCE3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4CD-1870-45C4-9045-19990FA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1C6-2412-4CA0-A311-887D480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BEB-6D40-4F67-A980-CAA50436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AE1-80E6-4E08-98C3-8741290C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A77-AF2A-446D-AB26-C12D4C1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65A-8E2B-4FC8-B27E-1A0C326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B79-6789-4FFB-8301-E7D6386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704A-F37E-4AE2-A944-ED6DBA257E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C0B-8A2F-4997-B558-590910BF632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Using Cred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ny valuable assets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y do you ow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savings account or invest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you been working regularl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you have a steady job? What is your salar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other loan paym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re your current living expenses? What are your current debt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many dependents do you hav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general economic conditions can affect your repayment of deb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secure is your job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w is the employment situation in your geographic are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a 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ilding a credit hi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tablish a steady work rec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all bills prompt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checking account and don’t bounce chec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n a savings account and make regular deposi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local store credit card and make regular monthly paym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ly for a small loan using your savings account as collater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t a co-signer on a loan and pay back the loan as agre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pen 30-Day Accou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sumer promises to pay the full balance each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llment credi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rchandise and services are paid for in two or more regularly scheduled payments of a set amount. Interest is inclu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ail businesses, such as car and appliance deal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volving cred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items can be bought using this plan as long as the total amount does not go over the credit user’s assigned dollar lim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ayment is made at regular time intervals for any amount at or above the minimum required amount. Interest is charged on the remaining bal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ail sto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institutions that issue credit c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Card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selecting a credit card, learn which terms and conditions app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Percentage Rate (APR)- The cost of credit, expressed as a yearly percent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Period (grace period)- Allows you to avoid the finance charge by paying your current balance in full before the due date shown on your billing stat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nual Fees- A fee each year for using the c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 Fees- A fee implemented when you don’t pay your bill on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History- The complete record of your borrowing and repayment perform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Bureau- A company that gathers, stores, and sells credit information to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pproximately 1200 across the nation distribute information concerning nearly 150 million consum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Report- A written statement of a consumer’s credit history, issued by a credit bureau to its business subscri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uth in lending act (1968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sures consumers are fully informed about cost and conditions of borrow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r credit reporting act (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tects the privacy and accuracy of information in a credit chec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qual opportunity act (197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hibits discrimination in giving credit on the basis of sex, race, color, religion, national origin, marital status, age, or receipt of public assista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re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redit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- Money borrowed to buy something now, with the agreement to pay for it lat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80 percent of all purchases in the U.S. are made with credit rather than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ight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credit billing act (197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s up a procedure for the quick correction of mistakes that appear on consumer credit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air debt collection practices act (197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vents abuse by professional debt collectors, and applies to anyone employed to collect debts owed to others; does not apply to banks or other businesses collecting their own accou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Responsib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rrow only what you can rep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 and understand the credit contr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 debt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ify creditor if you cannot meet pay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lost or stolen credit cards promp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give your card number over the phone unless you initiated the call or are certain of the caller’s identi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uch can you afford? The 20-10 rul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total borrowing should not exceed 20 percent of your yearly net income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ample- You make $4000 a month, you should not borrow more than $800 per mon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should not take on monthly credit card payments that total more than 10 percent of your monthly net in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bt does not include your house paymen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krupt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nkruptcy- A legal process that relieves debtors of the responsibility of paying their debts or protects them while they try to rep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oluntary bankruptcy- occurs when creditors file a petition with the court asking to declare the debtor bankrup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untary bankruptcy- Occurs when you file a petition with a federal court asking to be declared bankru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1 bankruptcy- A reorganization form of bankruptcy for businesses that allows them to continue operation under court supervision as they repay their restructured deb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7 bankruptcy- A liquidation form of bankruptcy for individuals that wipes out most debts in exchange for giving up most asse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hapter 13 bankruptcy- A reorganization form of bankruptcy for individuals that allows debtors to keep their property and use their income to pay a portion of their debts over three to five yea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venting Credit Card F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Write “SEE ID” on your card – sign name to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 Don’t allow your card out of your s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Be Careful giving your account nu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 Don’t put your PIN on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 Don’t carry cards that are not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 Destroy your card if you receive a new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 Destroy your recei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 Don’t let others use your c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 Invest in a safety deposit bo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arly Years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need for credit arose in the US when the country grew from a bartering and trading society to a currency exchange econom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of the earliest forms of credit was the account at the general st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0’s Credit- Since the 1900’s, interest rates have drop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ord numbers of people declared bankruptcy because they overextended on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nce 1920 buying on credit has become the American way of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longer is credit saved for emergen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 to 1970, there was no consumer credit protection legislation; laws protecting consum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Credit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- Credit is abundant and easy to g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rchants encourage consumers to use credit to buy all kinds of good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ernet has opened new uses of credit cards that will increase debt into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le to buy needed items n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have to carry c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s a record of purch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convenient than writing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olidates bills into one pay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using credi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(higher cost of item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require additional fe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ncial difficulties may arise if one loses track of how much has been spent each mon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impulse buying may occ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ital- Property you possess that is worth more than your deb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is lets the creditor know you are worthy of borrowing money 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lateral- Property pledged to assure repayment of a lo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f you fail to make your payments, your property will be repossesse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ancial Charge- The interest you pay for the use of cred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 of Credit- A pre-established amount that can be borrowed on demand with no collater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erred Billing- A service available to charge customers whereby purchases are not billed to the customer until la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C’s of Cred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you used credit befo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pay your bills on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have a good credit repor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you provide character referenc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long have you been at your present job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59:10Z</dcterms:created>
  <dc:creator>bbauer</dc:creator>
  <dc:description/>
  <dc:language>en-US</dc:language>
  <cp:lastModifiedBy>bbauer</cp:lastModifiedBy>
  <dcterms:modified xsi:type="dcterms:W3CDTF">2011-04-29T16:57:22Z</dcterms:modified>
  <cp:revision>15</cp:revision>
  <dc:subject/>
  <dc:title>Using Credit</dc:title>
</cp:coreProperties>
</file>