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AD7-67D9-4233-A7AB-0C435E1D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6B3-5FFE-4EA6-9C54-FD4D3CAE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8B0-1653-47F7-BE17-3223389E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CD3-D342-42E3-B5B3-42CAB10F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75E6-FFCD-47D1-AAAF-FA6BF8C9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DD2C-9C5B-4064-A4A7-AD280DE0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C5F0-7067-476C-ACD5-0FE1B54C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C9AD-5F76-4C91-BA74-3ED3FC3E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A1AA-CF6A-4EAE-AF29-3F25EEF7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115D-897A-403A-8CBB-39833067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F416-DC97-4BD9-96A6-9359E2B9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557-3F54-48DF-8A4F-A8FDF003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BE70-C30A-46D7-BEA1-D3A56063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ED61-6461-494A-9A7C-5356E18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5139-622A-4AAF-B22C-1921B8E3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219F-ECAB-4E0B-B40B-9D292C56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3A5A-287A-46EE-BE8F-B63F02F7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E55-A954-4BF6-B6A9-18F2413E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868-7944-4FC3-81F5-C6A2FF8B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333-12FF-4C50-BA47-26BBDA45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3AB-0C27-4B1F-BB62-EE65A7B6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CCE-BE36-4EE7-9F1A-8923E94A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0E8-8D5E-40B1-A1EE-5FD05F9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5B6-6596-4532-B2F3-41999800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5811-86B8-4302-97D7-93167C2403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44E7-CE87-43AE-8023-45BF832E164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Using Credi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ny valuable assets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property do you ow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savings account or investment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you been working regularl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 you have a steady job? What is your salar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other loan paym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are your current living expenses? What are your current debt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depend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general economic conditions can affect your repayment of deb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secure is your job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is the employment situation in your geographic area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a 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uilding a credit his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tablish a steady work rec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all bills prompt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checking account and don’t bounce check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savings account and make regular deposi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local store credit card and make regular monthly paym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small loan using your savings account as collater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t a co-signer on a loan and pay back the loan as agre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pen 30-Day Accou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nsumer promises to pay the full balance each mon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tallment credi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rchandise and services are paid for in two or more regularly scheduled payments of a set amount. Interest is includ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ail businesses, such as car and appliance deal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evolving cred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items can be bought using this plan as long as the total amount does not go over the credit user’s assigned dollar lim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ayment is made at regular time intervals for any amount at or above the minimum required amount. Interest is charged on the remaining bala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ail sto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institutions that issue credit ca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Card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Before selecting a credit card, learn which terms and conditions app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Percentage Rate (APR)- The cost of credit, expressed as a yearly percent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Period (grace period)- Allows you to avoid the finance charge by paying your current balance in full before the due date shown on your billing stat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Fees- A fee each year for using the c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te Fees- A fee implemented when you don’t pay your bill on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History- The complete record of your borrowing and repayment perform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Bureau- A company that gathers, stores, and sells credit information to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pproximately 1200 across the nation distribute information concerning nearly 150 million consum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Report- A written statement of a consumer’s credit history, issued by a credit bureau to its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uth in lending act (1968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sures consumers are fully informed about cost and conditions of borrow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r credit reporting act (197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tects the privacy and accuracy of information in a credit check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qual opportunity act (1974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hibits discrimination in giving credit on the basis of sex, race, color, religion, national origin, marital status, age, or receipt of public assistan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red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redit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- Money borrowed to buy something now, with the agreement to pay for it lat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 80 percent of all purchases in the U.S. are made with credit rather than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credit billing act (197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s up a procedure for the quick correction of mistakes that appear on consumer credit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debt collection practices act (197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vents abuse by professional debt collectors, and applies to anyone employed to collect debts owed to others; does not apply to banks or other businesses collecting their own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esponsibi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rrow only what you can rep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and understand the credit contra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y debt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ify creditor if you cannot meet pay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ort lost or stolen credit card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give your card number over the phone unless you initiated the call or are certain of the caller’s identi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much can you afford? The 20-10 rul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r total borrowing should not exceed 20 percent of your yearly net income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ample- You make $4000 a month, you should not borrow more than $800 per mon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should not take on monthly credit card payments that total more than 10 percent of your monthly net in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bt does not include your house paymen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nkrupt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nkruptcy- A legal process that relieves debtors of the responsibility of paying their debts or protects them while they try to rep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oluntary bankruptcy- occurs when creditors file a petition with the court asking to declare the debtor bankrup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Voluntary bankruptcy- Occurs when you file a petition with a federal court asking to be declared bankru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1 bankruptcy- A reorganization form of bankruptcy for businesses that allows them to continue operation under court supervision as they repay their restructured deb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7 bankruptcy- A liquidation form of bankruptcy for individuals that wipes out most debts in exchange for giving up most asse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3 bankruptcy- A reorganization form of bankruptcy for individuals that allows debtors to keep their property and use their income to pay a portion of their debts over three to five yea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venting Credit Card Fra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Write “SEE ID” on your card – sign name to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 Don’t allow your card out of your s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Be Careful giving your account num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 Don’t put your PIN on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 Don’t carry cards that are not need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 Destroy your card if you receive a new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 Destroy your receip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 Don’t let others use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.  Invest in a safety deposit bo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arly Years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need for credit arose in the US when the country grew from a bartering and trading society to a currency exchange econom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of the earliest forms of credit was the account at the general st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00’s Credit- Since the 1900’s, interest rates have dropp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ord numbers of people declared bankruptcy because they overextended on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nce 1920 buying on credit has become the American way of lif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longer is credit saved for emergen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or to 1970, there was no consumer credit protection legislation; laws protecting consum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day- Credit is abundant and easy to g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rchants encourage consumers to use credit to buy all kinds of goods and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nternet has opened new uses of credit cards that will increase debt into the fu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le to buy needed items n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have to carry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es a record of purch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convenient than writing chec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olidates bills into one pay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est (higher cost of item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require additional fe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ancial difficulties may arise if one loses track of how much has been spent each mon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impulse buying may occ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ital- Property you possess that is worth more than your deb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is lets the creditor know you are worthy of borrowing money 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llateral- Property pledged to assure repayment of a lo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f you fail to make your payments, your property will be repossessed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Charge- The interest you pay for the use of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e of Credit- A pre-established amount that can be borrowed on demand with no collater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erred Billing- A service available to charge customers whereby purchases are not billed to the customer until lat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you used credit befo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pay your bills on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good credit repor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you provide character referenc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long have you been at your present job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59:10Z</dcterms:created>
  <dc:creator>bbauer</dc:creator>
  <dc:description/>
  <dc:language>en-US</dc:language>
  <cp:lastModifiedBy>bbauer</cp:lastModifiedBy>
  <dcterms:modified xsi:type="dcterms:W3CDTF">2011-04-29T16:57:22Z</dcterms:modified>
  <cp:revision>15</cp:revision>
  <dc:subject/>
  <dc:title>Using Credit</dc:title>
</cp:coreProperties>
</file>