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989E-C6B1-456D-91FF-0316096FB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40C5-386E-4226-9284-B24F7D9EB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626c"/>
                </a:solidFill>
                <a:latin typeface="Arial"/>
              </a:rPr>
              <a:t>Print as a handout w/ 6 sli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FAEA-7538-4721-9081-FD1C25E85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2908-8E84-43A8-941D-F30FE600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89FC-814E-4765-A218-76D8466E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A11-2DCC-441A-8A22-466F6E01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37D2-4E3F-4E17-B64D-7B48A31D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2B78-8D03-48A4-9F62-AA8030EF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E3A-696B-4C6C-986B-505F98A6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86FC-279C-4A54-AA55-7CB30A74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5EEF-AD9D-44F8-B2E8-BC1B2A52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8340-3D3E-4328-942A-D34B42E2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FAEC-AE9D-4360-B7EA-6CBB1F43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F9F-841B-42B8-AAF5-BBA8CCC0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81E8-CB11-4B01-9B89-082FBA31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A6D9-4208-4BED-B690-191565D70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551800" cy="7620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-155520"/>
            <a:ext cx="8547120" cy="29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800" spc="-1" strike="noStrike" u="sng">
                <a:solidFill>
                  <a:srgbClr val="482400"/>
                </a:solidFill>
                <a:uFillTx/>
                <a:latin typeface="Arial"/>
              </a:rPr>
              <a:t>Social Media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68680" y="4368960"/>
            <a:ext cx="70228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By: B. Bau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ODS 1-3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Business Admi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Table of Contents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0800" y="2349000"/>
            <a:ext cx="846288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3300"/>
                </a:solidFill>
                <a:latin typeface="Arial"/>
              </a:rPr>
              <a:t>Slide 3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What is it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82400"/>
                </a:solidFill>
                <a:latin typeface="Arial"/>
              </a:rPr>
              <a:t>Slide 4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Why is it a trend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3300"/>
                </a:solidFill>
                <a:latin typeface="Arial"/>
              </a:rPr>
              <a:t>Slide 5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How are businesses using it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82400"/>
                </a:solidFill>
                <a:latin typeface="Arial"/>
              </a:rPr>
              <a:t>Slide 6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Conclus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30120" y="558720"/>
            <a:ext cx="85467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482400"/>
                </a:solidFill>
                <a:uFillTx/>
                <a:latin typeface="Arial"/>
              </a:rPr>
              <a:t>What is i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C:\Documents and Settings\bbauer\Local Settings\Temporary Internet Files\Content.IE5\7JQ0GL1L\MP900444155[1].jpg"/>
          <p:cNvPicPr/>
          <p:nvPr/>
        </p:nvPicPr>
        <p:blipFill>
          <a:blip r:embed="rId2"/>
          <a:stretch/>
        </p:blipFill>
        <p:spPr>
          <a:xfrm>
            <a:off x="7365960" y="5715000"/>
            <a:ext cx="2581200" cy="1728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498320" y="243792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create online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, ideas, personal messages are sh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y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old fri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eople you might not otherwise talk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et new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Why is it a trend?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6561000" y="4000680"/>
            <a:ext cx="3314880" cy="2943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98320" y="2133360"/>
            <a:ext cx="7111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multitas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indirect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do it without tal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rm"/>
          <p:cNvSpPr/>
          <p:nvPr/>
        </p:nvSpPr>
        <p:spPr>
          <a:xfrm>
            <a:off x="7670880" y="2743200"/>
            <a:ext cx="1809720" cy="2219400"/>
          </a:xfrm>
          <a:custGeom>
            <a:avLst/>
            <a:gdLst>
              <a:gd name="textAreaLeft" fmla="*/ 397080 w 1809720"/>
              <a:gd name="textAreaRight" fmla="*/ 1626480 w 1809720"/>
              <a:gd name="textAreaTop" fmla="*/ 134280 h 2219400"/>
              <a:gd name="textAreaBottom" fmla="*/ 1677960 h 22194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How are businesses using it?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74280" y="2458800"/>
            <a:ext cx="84438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 </a:t>
            </a: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Get feedback from custom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Word of mouth advertis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Point of Sale – example renting a vide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Develop relationships with custom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Using it for internal communication within compan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4d62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626c"/>
                </a:solidFill>
                <a:latin typeface="Georgia"/>
              </a:rPr>
              <a:t>Example: Blog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Conclusion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890640" y="1828800"/>
            <a:ext cx="854712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Online communit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d626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Allows for multitasking and less face-to-face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Develops a relationship with a custom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acsysop</cp:lastModifiedBy>
  <dcterms:modified xsi:type="dcterms:W3CDTF">2012-02-13T19:48:33Z</dcterms:modified>
  <cp:revision>13</cp:revision>
  <dc:subject/>
  <dc:title>PowerPoint Presentation</dc:title>
</cp:coreProperties>
</file>