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17CD-1467-4383-9064-9C54026C1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90BA-5518-4692-8411-82E66EF56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626c"/>
                </a:solidFill>
                <a:latin typeface="Arial"/>
              </a:rPr>
              <a:t>Print as a handout w/ 6 sli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316F-750E-41DC-971C-4723A7684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CAA-B84A-48F3-AFD0-FAA813F0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EB1C-16B9-4374-81E9-1654F48F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F68-FD47-4248-9C3F-985A9761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00A-E82B-4B15-BF40-6CFE6D9B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31F-5BCB-4C9B-A803-041CCFA4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95F-6F2A-4EEA-986E-2959A218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AC8B-FA71-47F3-89E8-F2B9D8EC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90AB-150C-41A3-88DE-3D5E2D77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48D0-24BC-4776-B8CA-85E45B58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392-3108-4B45-A7E5-3C937D24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FC2-C5AD-40C3-A0E4-CC99CC4D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823-1B74-4E8D-B0CC-E332A64E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567F-CC3C-4C68-917D-17CAF55AE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551800" cy="762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-155520"/>
            <a:ext cx="8547120" cy="29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800" spc="-1" strike="noStrike" u="sng">
                <a:solidFill>
                  <a:srgbClr val="482400"/>
                </a:solidFill>
                <a:uFillTx/>
                <a:latin typeface="Arial"/>
              </a:rPr>
              <a:t>Social Media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6868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y: B. Bau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ODS 1-3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usiness Admi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Table of Contents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0800" y="2349000"/>
            <a:ext cx="846288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00"/>
                </a:solidFill>
                <a:latin typeface="Arial"/>
              </a:rPr>
              <a:t>Slide 3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What is i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82400"/>
                </a:solidFill>
                <a:latin typeface="Arial"/>
              </a:rPr>
              <a:t>Slide 4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Why is it a trend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00"/>
                </a:solidFill>
                <a:latin typeface="Arial"/>
              </a:rPr>
              <a:t>Slide 5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How are businesses using i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82400"/>
                </a:solidFill>
                <a:latin typeface="Arial"/>
              </a:rPr>
              <a:t>Slide 6……..</a:t>
            </a:r>
            <a:r>
              <a:rPr b="0" lang="en-US" sz="3100" spc="-1" strike="noStrike" u="sng">
                <a:solidFill>
                  <a:srgbClr val="993300"/>
                </a:solidFill>
                <a:uFillTx/>
                <a:latin typeface="Arial"/>
              </a:rPr>
              <a:t>Conclus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30120" y="558720"/>
            <a:ext cx="85467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482400"/>
                </a:solidFill>
                <a:uFillTx/>
                <a:latin typeface="Arial"/>
              </a:rPr>
              <a:t>What is i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C:\Documents and Settings\bbauer\Local Settings\Temporary Internet Files\Content.IE5\7JQ0GL1L\MP900444155[1].jpg"/>
          <p:cNvPicPr/>
          <p:nvPr/>
        </p:nvPicPr>
        <p:blipFill>
          <a:blip r:embed="rId2"/>
          <a:stretch/>
        </p:blipFill>
        <p:spPr>
          <a:xfrm>
            <a:off x="7365960" y="5715000"/>
            <a:ext cx="2581200" cy="1728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98320" y="243792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create online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, ideas, personal messages are sh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y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old fri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eople you might not otherwise talk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et new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Why is it a trend?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6561000" y="4000680"/>
            <a:ext cx="3314880" cy="2943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98320" y="2133360"/>
            <a:ext cx="7111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multitas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indirect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o it without tal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rm"/>
          <p:cNvSpPr/>
          <p:nvPr/>
        </p:nvSpPr>
        <p:spPr>
          <a:xfrm>
            <a:off x="7670880" y="2743200"/>
            <a:ext cx="1809720" cy="2219400"/>
          </a:xfrm>
          <a:custGeom>
            <a:avLst/>
            <a:gdLst>
              <a:gd name="textAreaLeft" fmla="*/ 397080 w 1809720"/>
              <a:gd name="textAreaRight" fmla="*/ 1626480 w 1809720"/>
              <a:gd name="textAreaTop" fmla="*/ 134280 h 2219400"/>
              <a:gd name="textAreaBottom" fmla="*/ 1677960 h 22194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How are businesses using it?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74280" y="2458800"/>
            <a:ext cx="84438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Get feedback from custom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Word of mouth advertis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Point of Sale – example renting a vide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Develop relationships with custom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Using it for internal communication within compan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4d62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626c"/>
                </a:solidFill>
                <a:latin typeface="Georgia"/>
              </a:rPr>
              <a:t>Example: Blog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84400" y="1746360"/>
            <a:ext cx="8637480" cy="149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0120" y="473040"/>
            <a:ext cx="85467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482400"/>
                </a:solidFill>
                <a:uFillTx/>
                <a:latin typeface="Arial"/>
              </a:rPr>
              <a:t>Conclusion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90640" y="1828800"/>
            <a:ext cx="85471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Online communit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llows for multitasking and less face-to-face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d626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eorgia"/>
              </a:rPr>
              <a:t>Develops a relationship with a custom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acsysop</cp:lastModifiedBy>
  <dcterms:modified xsi:type="dcterms:W3CDTF">2012-02-13T19:48:33Z</dcterms:modified>
  <cp:revision>13</cp:revision>
  <dc:subject/>
  <dc:title>PowerPoint Presentation</dc:title>
</cp:coreProperties>
</file>